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0C2-4C43-4167-8AE4-3688ECE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033-FFB2-43C4-9BC4-7B97913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6EA-016E-4103-8273-9274337B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29D-AC79-4EF9-9728-5B2D8C43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BE7-6ECA-4CE7-8106-0EDE7A1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0BF-EC91-4850-BDED-3FA58D0A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654-50C0-4DE8-BEA0-BD41838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D76-A825-420E-B1CF-B30F5DF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A5B-1992-4A9A-B6E5-1A6CC91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369-368D-40A6-86CB-84AC9A9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FB5-A560-47E7-9FA9-5BEA431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112-992F-4489-8FE3-6BC7CCF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1ABE-0F1C-4192-ADCF-505D6510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f4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04920"/>
            <a:ext cx="7181640" cy="620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805360"/>
            <a:ext cx="590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557360"/>
            <a:ext cx="12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41300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rad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44600" y="620640"/>
            <a:ext cx="5981760" cy="623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6021360"/>
            <a:ext cx="51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981000"/>
            <a:ext cx="2303280" cy="503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5240" y="9748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912000" cy="600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413000"/>
            <a:ext cx="180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773360"/>
            <a:ext cx="1224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5734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743880" cy="622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1700280"/>
            <a:ext cx="165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628640"/>
            <a:ext cx="1224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9:35:28Z</dcterms:created>
  <dc:creator>user</dc:creator>
  <dc:description/>
  <dc:language>en-US</dc:language>
  <cp:lastModifiedBy>user</cp:lastModifiedBy>
  <dcterms:modified xsi:type="dcterms:W3CDTF">2011-10-05T09:37:02Z</dcterms:modified>
  <cp:revision>2</cp:revision>
  <dc:subject/>
  <dc:title>Economic Integration</dc:title>
</cp:coreProperties>
</file>